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7E9-5985-4464-92DB-7A4CC3B1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8994-1DDF-45F5-9514-12C7FFAF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D8D-9C9E-44D6-BB7F-DF38D965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845-6EBC-4D2A-A027-9A732C7B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CC6-7DC6-492D-A4C2-282E9F3D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A716-B805-4BAA-BADE-E4B8241B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7C9-CDB6-4975-9F10-CA387138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DAC-3270-4643-8FA8-17108C60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11DC-8922-47E6-A444-58623B75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4AD-6023-48BE-ABDC-F96FA5A4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628-34B7-431C-94BF-1228C3F7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3D2-A9C9-418B-9763-E3901CB7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B700-C542-43F3-AE5D-35936F887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2692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3238560" cy="2197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26200" y="609480"/>
            <a:ext cx="25369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Logo"/>
          <p:cNvPicPr/>
          <p:nvPr/>
        </p:nvPicPr>
        <p:blipFill>
          <a:blip r:embed="rId4"/>
          <a:stretch/>
        </p:blipFill>
        <p:spPr>
          <a:xfrm>
            <a:off x="1406520" y="4648320"/>
            <a:ext cx="2022480" cy="202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66800" y="228600"/>
            <a:ext cx="3895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Murray River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15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56ff"/>
                </a:solidFill>
                <a:latin typeface="Times New Roman"/>
              </a:rPr>
              <a:t>Rising sal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Water level has dr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Native fish have declined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dffc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c2e"/>
                </a:solidFill>
                <a:latin typeface="Times New Roman"/>
              </a:rPr>
              <a:t>Alien fish int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00600" cy="287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09480" y="152280"/>
            <a:ext cx="73915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s the Murray River being damaged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Adelaide’s water may be too salty to dr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Rising salt changes the habitats(the native environment of an animal or plant) of native flora (plants) and fauna (animals) and they may not be able to surv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It also impacts on crop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ired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To reverse rising salt levels and to minimize and where possible prevent,damage to water resources and the environment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posed action and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Plant deep rooted veg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Arial"/>
              </a:rPr>
              <a:t>New technologies in irrigation (eg. Sprinkler) are being int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0" y="228600"/>
            <a:ext cx="35719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ising Salt Level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50000">
              <a:srgbClr val="55261c"/>
            </a:gs>
            <a:gs pos="100000">
              <a:srgbClr val="dcebf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0840" y="152244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ver a dozen native fish species, including the giant Murray cod are threatened with extin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red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To rehabilitate(to make better)  rapidly declining native fish communities in the basin to 60% of their estimated pre-European settlement lev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action and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Coordinate the construction of fish ways and river flows to help protect migrating species (fish that move from one area to the nex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Recreate traditional breeding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Bring in fishing rules between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705040" y="343080"/>
            <a:ext cx="33908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ative Fish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962520"/>
          </a:xfrm>
          <a:prstGeom prst="rect">
            <a:avLst/>
          </a:prstGeom>
          <a:noFill/>
          <a:ln cap="rnd" w="60480">
            <a:solidFill>
              <a:srgbClr val="ff66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dffc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fc2e"/>
                </a:solidFill>
                <a:latin typeface="Times New Roman"/>
              </a:rPr>
              <a:t>The introduction of Alien Fish has impacted on the environment and native fish</a:t>
            </a:r>
            <a:r>
              <a:rPr b="0" lang="en-US" sz="1800" spc="-1" strike="noStrike">
                <a:solidFill>
                  <a:srgbClr val="dffc2e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red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dffc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fc2e"/>
                </a:solidFill>
                <a:latin typeface="Times New Roman"/>
              </a:rPr>
              <a:t>To reduce the spread of alien fish and give our native fish a chance, we need to manage issues such as water quality, environmental, flows, fish passages and snags to maintain or return conditions to those best suited to native fish. In a more natural environment, native fish have more chance to compete with alien f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action and guide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dffc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ffc2e"/>
                </a:solidFill>
                <a:latin typeface="Times New Roman"/>
              </a:rPr>
              <a:t>Research is being done to interfere with their breeding cycles and stop them reproducing (having babi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66880" y="152280"/>
            <a:ext cx="270540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lien Fis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ctr">
              <a:spcBef>
                <a:spcPts val="45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Water flow reduced by three-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red Out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ctr">
              <a:spcBef>
                <a:spcPts val="45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The Murray river needs a massive 1,500 gigalitres(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One Gig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 litre = 1000 Mega litres. One Mega litre= One million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 litres)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to survive its long lasting lif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action and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45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P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urchasing water is the only way to return water to the River Murray in time to avoid 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environmental</a:t>
            </a:r>
            <a:r>
              <a:rPr b="1" i="1" lang="en-AU" sz="1800" spc="-1" strike="noStrike">
                <a:solidFill>
                  <a:srgbClr val="ff00ff"/>
                </a:solidFill>
                <a:latin typeface="Times New Roman"/>
              </a:rPr>
              <a:t> dec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ctr">
              <a:spcBef>
                <a:spcPts val="451"/>
              </a:spcBef>
              <a:buClr>
                <a:srgbClr val="ff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The government is looking at over-allocation and over</a:t>
            </a:r>
            <a:r>
              <a:rPr b="1" i="1" lang="en-US" sz="1800" spc="-1" strike="noStrike">
                <a:solidFill>
                  <a:srgbClr val="00ff99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ff00ff"/>
                </a:solidFill>
                <a:latin typeface="Times New Roman"/>
              </a:rPr>
              <a:t>use of w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920" y="190440"/>
            <a:ext cx="583884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ater Level has Dropped</a:t>
            </a:r>
            <a:endParaRPr b="1" i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.porter</cp:lastModifiedBy>
  <dcterms:modified xsi:type="dcterms:W3CDTF">2009-04-09T02:02:21Z</dcterms:modified>
  <cp:revision>21</cp:revision>
  <dc:subject/>
  <dc:title>PowerPoint Presentation</dc:title>
</cp:coreProperties>
</file>